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12038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120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9"/>
          </p:nvPr>
        </p:nvSpPr>
        <p:spPr>
          <a:xfrm>
            <a:off x="3885840" y="-3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419040" y="902880"/>
            <a:ext cx="6019920" cy="45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0"/>
          </p:nvPr>
        </p:nvSpPr>
        <p:spPr>
          <a:xfrm>
            <a:off x="-360" y="114375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1"/>
          </p:nvPr>
        </p:nvSpPr>
        <p:spPr>
          <a:xfrm>
            <a:off x="3885840" y="114375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AB25E6-5FBC-41C2-88E9-D4B1D95D0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8643F9-9738-4EEE-A746-D24806646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5719680"/>
            <a:ext cx="54864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11434680"/>
            <a:ext cx="2971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569B-91F6-49C4-A2AE-29432995F9F6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6F9BF6-F32F-4218-8C46-791933BE6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1A866F-D6D8-44D3-9A53-900B07D5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A4C65B-DF66-4D2F-B9A8-D8C5E5C7F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41CDDD-675E-45C3-A373-8CF4FC82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C establishe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immigration Partnerships (LIPs) in Ontario in two for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ity-wide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eighbourhood-based LIPs in Toronto (total cost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4 mill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unity-wide LIPs in Ontario (total cost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5.2 mill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ote that the amounts are an est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63D5B7-56EC-4E71-85D5-D01F73F3A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87B5C3-2A8D-435C-BA03-A8CE3CB5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263-2829-4C13-B9F4-B94C3E2E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ABC-DF7A-4390-B8F7-F1013DC0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C58-0339-4440-8F25-26B90A91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B5D-C0FD-4422-9C1F-9CB03019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268-02E7-4FCD-93DE-67C89000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D7F-7EB6-4377-8784-F8C292E1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5E3-E9BF-4716-8768-4E9746C1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EAB-D11C-41DD-B2A8-ABFB8DB5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6B5-CFDC-4D3C-808D-B7AC3A97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912-C279-42A2-8DE0-96827F9A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DF3-3676-4567-9C98-C80700A7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11F-678A-4CAA-9D7D-4A0C5185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87CEB-4DAA-447B-A06B-C46A9D6B77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3BFFA-E91B-45FC-A9F7-0C9979C31F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32D68-BD5A-4AB1-AAF4-6FA75D5CF9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6126D-600C-45DA-B7E2-7EF8611300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BE94A-8CDC-4E9B-A997-CCFE18D44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662F1-597D-4CCF-A5FC-AB9216635F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327F7-DD76-4777-852C-D835060F21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2258E-CB36-466B-AE1C-2F8C2FA602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E076A-BA4B-4138-AA8A-B7F0083782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6832C-AC64-4406-B9FA-FF022889C4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008D6-4C26-4D22-8E62-D9B8CDDA49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D5024-03C8-4EB2-A2F0-0360BC97D1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89910-1864-497B-A5BD-0C57DA19F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176B2-56BA-4BAF-B877-C74D661E3B5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BBE9A-18E9-4B7D-9CEB-447A263640D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DAE03-B82F-4DFD-B45D-4FB6C41E078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7DD7A-1CF7-4C99-9B4B-3EB446813DA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46283-82F8-4849-93D5-DFE0418591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F1496-3E16-40C6-842B-C95FA84E40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9FD62-0505-47E8-850B-7A2E13D73D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6628B-B654-4322-AE52-4216C64C0E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AFBE8-FB9C-4843-87C0-79D613001A8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B947D-FF12-4FED-B1FB-035EECC22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9C674-4AC0-449B-AB66-771FB7A89D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3561C-BC2D-43A0-9802-3D1CC4A9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265F2-847B-4CFB-935A-30B2F653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139A7-D14C-48CB-825D-C42C7A02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CDFA3-5932-4CE6-8BC5-063F504C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00915-98FD-49AD-9BC7-C9977AF9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31D0E-4CAE-4F1E-9E81-760DE845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79AD6-79F4-4F0A-9F16-07E53131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D752B-8D80-477D-B341-BD2F054B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ECE23-4F03-41BA-ACDF-872A4CA4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C6A83-80D9-46F8-B2A1-C38BC4F1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94355-1D75-4071-80EE-74E9C5F0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C45B6-18F3-4A7A-A7BF-BAF3A82F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A287-C29B-408E-A9A5-19DABABBA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slide2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33520" y="990720"/>
            <a:ext cx="8076960" cy="533160"/>
          </a:xfrm>
          <a:prstGeom prst="rect">
            <a:avLst/>
          </a:prstGeom>
          <a:gradFill rotWithShape="0">
            <a:gsLst>
              <a:gs pos="0">
                <a:srgbClr val="1b357d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4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9638-4346-4576-BC20-B6CFD5B41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corp-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4D7F-40E2-4EE4-A5CD-E6AA54598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0D08-83D9-40AD-835F-A6DC95207B53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ED29-B87F-4536-89D4-182E46600870}" type="slidenum">
              <a:rPr b="0" lang="en-C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9640" y="4952520"/>
            <a:ext cx="3270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North Etobicoke LIP Summi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Woodbine Convention Centr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June 28</a:t>
            </a:r>
            <a:r>
              <a:rPr b="0" lang="en-US" sz="1500" spc="-1" strike="noStrike" baseline="30000">
                <a:solidFill>
                  <a:srgbClr val="898989"/>
                </a:solidFill>
                <a:latin typeface="Verdana"/>
              </a:rPr>
              <a:t>th</a:t>
            </a: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, 2011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539640" y="4149720"/>
            <a:ext cx="6985080" cy="647640"/>
          </a:xfrm>
          <a:prstGeom prst="rect">
            <a:avLst/>
          </a:prstGeom>
          <a:solidFill>
            <a:srgbClr val="2636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Diagram 1" descr=""/>
          <p:cNvPicPr/>
          <p:nvPr/>
        </p:nvPicPr>
        <p:blipFill>
          <a:blip r:embed="rId1"/>
          <a:stretch/>
        </p:blipFill>
        <p:spPr>
          <a:xfrm>
            <a:off x="695160" y="171360"/>
            <a:ext cx="7961400" cy="6448680"/>
          </a:xfrm>
          <a:prstGeom prst="rect">
            <a:avLst/>
          </a:prstGeom>
          <a:ln w="0">
            <a:noFill/>
          </a:ln>
        </p:spPr>
      </p:pic>
      <p:sp>
        <p:nvSpPr>
          <p:cNvPr id="270" name="Oval 2"/>
          <p:cNvSpPr/>
          <p:nvPr/>
        </p:nvSpPr>
        <p:spPr>
          <a:xfrm>
            <a:off x="6121440" y="3059280"/>
            <a:ext cx="1782720" cy="1784160"/>
          </a:xfrm>
          <a:prstGeom prst="ellipse">
            <a:avLst/>
          </a:prstGeom>
          <a:solidFill>
            <a:srgbClr val="558ed5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3186000" y="190440"/>
            <a:ext cx="1782720" cy="1784520"/>
          </a:xfrm>
          <a:prstGeom prst="ellipse">
            <a:avLst/>
          </a:prstGeom>
          <a:solidFill>
            <a:srgbClr val="9a9072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2697120" y="1679400"/>
            <a:ext cx="3749760" cy="3275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4572000" y="4594320"/>
            <a:ext cx="1782720" cy="1784160"/>
          </a:xfrm>
          <a:prstGeom prst="ellipse">
            <a:avLst/>
          </a:prstGeom>
          <a:solidFill>
            <a:srgbClr val="e46c0a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4572000" y="209520"/>
            <a:ext cx="1782720" cy="1782720"/>
          </a:xfrm>
          <a:prstGeom prst="ellipse">
            <a:avLst/>
          </a:prstGeom>
          <a:solidFill>
            <a:srgbClr val="ccc1da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5705640" y="936720"/>
            <a:ext cx="1782720" cy="178272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3313080" y="3013200"/>
            <a:ext cx="246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dern No. 20"/>
              </a:rPr>
              <a:t>Partnership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3405240" y="66204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Municip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5924520" y="1585800"/>
            <a:ext cx="185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Faith-based/ethnic organiz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4749840" y="560520"/>
            <a:ext cx="163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Chambers of Commerce/Employ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6316560" y="278136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ocal Training Bo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6288120" y="383544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oci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7"/>
          <p:cNvSpPr/>
          <p:nvPr/>
        </p:nvSpPr>
        <p:spPr>
          <a:xfrm>
            <a:off x="6242040" y="503856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Health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5084640" y="5719680"/>
            <a:ext cx="110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Feder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86040" y="5700600"/>
            <a:ext cx="103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Provinci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2146320" y="4908600"/>
            <a:ext cx="149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Education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193760" y="3871800"/>
            <a:ext cx="16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Employ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1465200" y="2211480"/>
            <a:ext cx="166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ocal Settlement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2257560" y="1044720"/>
            <a:ext cx="10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21"/>
          <p:cNvSpPr/>
          <p:nvPr/>
        </p:nvSpPr>
        <p:spPr>
          <a:xfrm>
            <a:off x="680400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E092-A632-4C4B-9ECB-0CD78FAB3393}" type="slidenum">
              <a:rPr b="0" lang="en-CA" sz="1200" spc="-1" strike="noStrike">
                <a:solidFill>
                  <a:srgbClr val="1f497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hart 1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2"/>
          <p:cNvSpPr/>
          <p:nvPr/>
        </p:nvSpPr>
        <p:spPr>
          <a:xfrm>
            <a:off x="8459640" y="6308640"/>
            <a:ext cx="6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C146-7DBE-47F3-B47E-5E84CE1ECD99}" type="slidenum">
              <a:rPr b="0" lang="en-CA" sz="1800" spc="-1" strike="noStrike">
                <a:solidFill>
                  <a:srgbClr val="1f497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544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Create LIPs networking mechanis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Establish a policy foru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professional development  opportuni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Next Ste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D1CF-EBA6-48C8-AF2E-6F5252817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685440" y="1571400"/>
            <a:ext cx="80010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ional best pract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Sectoral and cross-sectoral best practi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Dataset tool for assessment of a Welcoming Commun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and Learning Dissemination too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Development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Methods of Assess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19AF-27E4-4367-8209-FD7106111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533160" y="5214600"/>
            <a:ext cx="327636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Franklin Gothic Medium"/>
                <a:ea typeface="FrankRuehl"/>
              </a:rPr>
              <a:t>Thank You ~ Mer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39280" y="1484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LIPs stems from the Canada-Ontario Immigration Agreement Strategic Plan, Strategy 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IC and MCI (Ministry of Citizenship and Immigration) will work with municipalities and federal-provincial government departments to enable partnerships that will integrate newcomers into the economic and social life of Ontario communitie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CIC and MCI developed the LIP initiative, which was further refined, in consultation with the Association of Municipalities of Ontario (AMO) and the City of Toro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C3D6-DE4B-4197-A924-4623CB0ED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280" y="162864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ario municipalities and regions want to encourage newcomers to settle and stay in their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unities that are organized, welcoming, and committed to helping newcomers succeed have the best potential to attract and retain new immigra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al knowledge of the service delivery landscape is essential to building logical, clear, and coordinated settlement service pathways for newco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ario municipalities want to provide a community lens on integration of funding decision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Why LI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C738-61C2-4728-A0EA-D8844C307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39280" y="1484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The objective of LIPs is to strengthen the role of regions and local communities in the integration of newcomers b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Supporting better coordination of integration services, including settlement and language training in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Providing a framework to facilitate the development and implementation of sustainable local and regional solu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Supporting the development and implementation of strategies and plans that provide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 community-specific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 solutions for achieving better outcomes for newco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5B82-65A4-49BC-8E07-994063FC1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44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Approximately 34 of the 45 LIPs are in the implementation st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CIC continues to support the LIPs’ ability to meet and coordinate their action pla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LIPs are being rolled out nationally in those provinces that currently are not devol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LIPs Upd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C3C6-0F68-4C15-81E2-45013C48A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1519-E7BC-4ABA-9E26-8BB177AE4C3E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Diagram 2" descr=""/>
          <p:cNvPicPr/>
          <p:nvPr/>
        </p:nvPicPr>
        <p:blipFill>
          <a:blip r:embed="rId1"/>
          <a:stretch/>
        </p:blipFill>
        <p:spPr>
          <a:xfrm>
            <a:off x="122400" y="615960"/>
            <a:ext cx="88200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Greater Toronto Area Local Immigration 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35EB-CCB8-4838-B94E-DD015D0E6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http://boscleaners.ca/wp-content/uploads/2010/06/Cleaning-Services-in-the-Toronto-Map.gif"/>
          <p:cNvPicPr/>
          <p:nvPr/>
        </p:nvPicPr>
        <p:blipFill>
          <a:blip r:embed="rId1"/>
          <a:stretch/>
        </p:blipFill>
        <p:spPr>
          <a:xfrm>
            <a:off x="536400" y="1566720"/>
            <a:ext cx="79311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Local Immigration Partnerships in Ontario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2947-6F73-4C83-9B7C-867623A50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rcRect l="34920" t="36025" r="35388" b="12768"/>
          <a:stretch/>
        </p:blipFill>
        <p:spPr>
          <a:xfrm>
            <a:off x="684360" y="1484280"/>
            <a:ext cx="7704000" cy="473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City of Toronto Neighbourhood Local Immigration Partnerships &amp; City Wide L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A407-9A95-4034-959C-09D5A29D0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rcRect l="12362" t="20525" r="29330" b="12116"/>
          <a:stretch/>
        </p:blipFill>
        <p:spPr>
          <a:xfrm>
            <a:off x="785880" y="1600200"/>
            <a:ext cx="75009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36:58Z</dcterms:created>
  <dc:creator>*</dc:creator>
  <dc:description/>
  <dc:language>en-US</dc:language>
  <cp:lastModifiedBy>Park Inn Guests</cp:lastModifiedBy>
  <dcterms:modified xsi:type="dcterms:W3CDTF">2011-06-23T13:45:42Z</dcterms:modified>
  <cp:revision>131</cp:revision>
  <dc:subject/>
  <dc:title>PowerPoint Presentation</dc:title>
</cp:coreProperties>
</file>